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E36-3D47-4746-9676-B018D48E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84C-F2D4-4C9E-AAC7-3B566748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F42-32D3-47A1-B4DE-849B4A8F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0B1-2C73-4527-972F-7B78CF37F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229A-6DA9-40C9-93F5-C95DDA8C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6EF6-A87A-4AE8-A319-294C3D1B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FAF3-59AB-46D4-A9F8-36F1845E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73FF-6E58-4FC5-85D0-DECDEF31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DA74-5EE9-494D-8380-5FDC2895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8BA0-7F90-411B-B0A4-0344D340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BADB-26D7-467D-9706-CB38A862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B101-5EAE-4589-9421-4DBD9BAB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F2C0-6F7E-4083-BF7E-4EB4B6F3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709A-851C-4308-B103-2353DC01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2F3B-27C0-44A1-BEB7-85733BBE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ADF1-A55E-47FD-862D-71368DF3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EA35-18BA-4532-BEA9-1E9BE312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8235-0176-4DCF-9630-2D543A74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1DDD-CD7B-4148-8AF5-AF2D43B3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CF53-80BF-4232-97B0-9F6FF58A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1FB7-C130-415F-90F2-CBBC9D20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FC6F-D7B0-40B9-945E-73AFEEC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E7E-CE30-4686-875D-D0BC7B0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0413-7364-4CAB-9D46-FD34F11C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B89A-9D2C-4A3B-8BE6-367AEC65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765E6-60FE-409A-B734-9F8D452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8C94B-DF39-4689-B059-211A6444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CCC5-2596-4216-9B19-7B80138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D239-BF12-4073-B0F3-E9191786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6BF9-CB83-4F63-8EC6-F2986453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2CF-A40B-4D88-888E-3ABDB4FB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342-C569-4D3C-9130-6B25681E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268-9B94-4A4A-90C1-BDF96718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443-CACF-407C-B41B-5875173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75E-8552-4EDD-8E1F-25C615B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96F-33D4-43F4-9B00-DACD96FF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AD4A-9CA6-47EF-9603-8D7F8FCE2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2C76-1F8F-4D53-9B49-F0FFA627A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210B-020D-4752-AB3A-162051E5E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780000" y="3886200"/>
            <a:ext cx="504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ыполнила:          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Нигаматзянова Гульнара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Ильдаровна, воспитатель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ГПД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0360" y="33336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МОУ Балтасинская гимн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6237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01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86080"/>
            <a:ext cx="7632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latin typeface="Tarzan"/>
              </a:rPr>
              <a:t>Клубный час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latin typeface="Tarzan"/>
              <a:ea typeface="Tarz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5e9eff"/>
                    </a:gs>
                  </a:gsLst>
                  <a:path path="rect">
                    <a:fillToRect l="50000" t="50000" r="50000" b="50000"/>
                  </a:path>
                </a:gradFill>
                <a:latin typeface="Tarzan"/>
              </a:rPr>
              <a:t>«Юным умникам и умницам»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path path="rect">
                  <a:fillToRect l="50000" t="50000" r="50000" b="50000"/>
                </a:path>
              </a:gradFill>
              <a:latin typeface="Tarzan"/>
              <a:ea typeface="Tarz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ёт борьба среди зверей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без клыков и без когтей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х по порядку одолеть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ог одолеть всех косолапый наш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9280" y="44280"/>
            <a:ext cx="3745080" cy="342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859280" y="3573360"/>
            <a:ext cx="3745080" cy="319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165564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266920" y="4508640"/>
            <a:ext cx="230508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f6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4920" y="804960"/>
            <a:ext cx="57592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ыжки в длину. Вам не совру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сех дальше прыгнул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19640" y="750960"/>
            <a:ext cx="371016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53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40464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перво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треть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пято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седьмое слов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десятое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е было девятое слов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 себя!!!!!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леб, кровать, звезда, облако, машина, труба, слон, дом, кошка, лу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258920" y="4581360"/>
            <a:ext cx="1584360" cy="150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651640" y="3716280"/>
            <a:ext cx="187308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771640" y="3573360"/>
            <a:ext cx="1871640" cy="1384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3357720"/>
            <a:ext cx="1501920" cy="136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6983280" y="4292640"/>
            <a:ext cx="2160720" cy="2050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rcRect l="24322" t="25302" r="9399" b="20965"/>
          <a:stretch/>
        </p:blipFill>
        <p:spPr>
          <a:xfrm>
            <a:off x="3924360" y="4869000"/>
            <a:ext cx="20160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500" autoRev="1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bf9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Анаграммы - загадки с перестановкой букв в слове для образования другого слов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341360"/>
            <a:ext cx="792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егко дыша в моей тени,</a:t>
            </a:r>
            <a:br>
              <a:rPr sz="1600"/>
            </a:br>
            <a:r>
              <a:rPr b="0" lang="ru-RU" sz="1600" spc="-1" strike="noStrike">
                <a:solidFill>
                  <a:srgbClr val="ff33cc"/>
                </a:solidFill>
                <a:latin typeface="Arial"/>
              </a:rPr>
              <a:t>Меня ты летом часто хвалишь,            (а,п,л,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о буквы переставь мои –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И целый лес ты мною свалишь.           (а,п,л,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1600" spc="-1" strike="noStrike">
                <a:solidFill>
                  <a:srgbClr val="9933ff"/>
                </a:solidFill>
                <a:latin typeface="Arial"/>
              </a:rPr>
              <a:t> – дерево в родной стране, 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rial"/>
              </a:rPr>
              <a:t>Найдешь в лесах меня ты всюду,  (с,н,о,с,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о слоги переставь во мне – </a:t>
            </a:r>
            <a:br>
              <a:rPr sz="1600"/>
            </a:b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И воду подавать я буду.          (с,н,о,с,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доль по проволоке мчусь,    (т,к,о)               </a:t>
            </a:r>
            <a:br>
              <a:rPr sz="1600"/>
            </a:b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Ночи я и дн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с конца меня прочтут –       (т,к,о)</a:t>
            </a: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Тигру я сродни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bf9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 себя!!!!!!!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Липа – п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Сосна – нас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Ток – к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аграмм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2174400"/>
            <a:ext cx="504216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С «к» в полях меня найд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 «г» романсы запо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С «в» в косички заплетё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С «ч» летаю над волн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С «л» не дам волкам по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 «м» рубашка - безрукав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С «з» скачу в лесу по тра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С «г» меня крепи к детали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железа или 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41444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бы отгадать метаграммму, нужно заменить  в слове одну букву другой, тогда вы получите новое слов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25574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2276640"/>
            <a:ext cx="2303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Коло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Голо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Воло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3933720"/>
            <a:ext cx="1584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33"/>
                </a:solidFill>
                <a:latin typeface="Arial"/>
              </a:rPr>
              <a:t>Ч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ff"/>
                </a:solidFill>
                <a:latin typeface="Arial"/>
              </a:rPr>
              <a:t>Л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М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33ff"/>
                </a:solidFill>
                <a:latin typeface="Arial"/>
              </a:rPr>
              <a:t>З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cc"/>
                </a:solidFill>
                <a:latin typeface="Arial"/>
              </a:rPr>
              <a:t>Гай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 какой квартире жил  каждый котёнок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1,2,3 жили 3 котён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что в квартире №1 и 2 жил не чёрный котёнок. Белый котёнок жил не в квартире №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916360" y="3860640"/>
            <a:ext cx="2466720" cy="1851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293920" cy="2519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69999">
                <a:alpha val="50000"/>
              </a:srgbClr>
            </a:outerShdw>
          </a:effectLst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796000" y="4184640"/>
            <a:ext cx="2521080" cy="1890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"/>
          <p:cNvSpPr txBox="1"/>
          <p:nvPr/>
        </p:nvSpPr>
        <p:spPr>
          <a:xfrm>
            <a:off x="2843280" y="1844640"/>
            <a:ext cx="1762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чёрны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42920" y="1785960"/>
            <a:ext cx="14288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9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alligraph421 BT"/>
              </a:rPr>
              <a:t>белы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91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alligraph421 BT"/>
              <a:ea typeface="Calligraph421 B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48200" y="1773360"/>
            <a:ext cx="14954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>
                    <a:alpha val="8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olstyak"/>
              </a:rPr>
              <a:t>рыжи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>
                  <a:alpha val="8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olstyak"/>
              <a:ea typeface="Tolstya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10e9"/>
            </a:gs>
            <a:gs pos="100000">
              <a:srgbClr val="eef74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64000" y="981000"/>
            <a:ext cx="2089080" cy="1873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ь себя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вартире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2737080" cy="2232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293920" cy="2519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6699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4464000" cy="5472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219640" y="620640"/>
            <a:ext cx="331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Какие животные могут это делать?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лычет-…, шипит-… , мычит -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ужжит -…, пищит -…, воет -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кает -.., чирикает -…, кукует -…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ет -…, квакает -…, ревет -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йдите гласные букв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700280"/>
            <a:ext cx="822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_л_дц_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_   _мн_к_  _   _мн_ц_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660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з каждого слова исключите по одному звуку, чтобы получилось новое слово. Вот так: го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ть-гость.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655360"/>
            <a:ext cx="79250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чка, сто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л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л, зу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а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к, по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чка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х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н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ряд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д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Добавьте к каждому из слов один звук, чтобы получилось новое слово. Вот так: рот-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рот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792468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оза (г), рубка (т), стол (б)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ар (у), клад (с), лапа(м)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шар (ф), усы (б)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f993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мените в словах один согласный звук. Вот так: корж-морж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792504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гти (к), зубы (д), киска (м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ок (л), галка (п), орёл (с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орка (к), свет (ц), полено (к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Олимпиада звер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6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имание! Внимание!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ётся общий старт!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бегу состяза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впереди?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18280" y="2349360"/>
            <a:ext cx="28177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 вот в поднятии бревна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ильнее не было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59280" y="3141720"/>
            <a:ext cx="7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18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0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81680"/>
            <a:ext cx="8640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Играют звери в баскетбол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рова, лошадь, бык, осёл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о мячик ловко отобрав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сех обыграл один… 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889600" y="3429000"/>
            <a:ext cx="2930400" cy="3313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867280" y="115920"/>
            <a:ext cx="2930760" cy="3168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04920" y="2708280"/>
            <a:ext cx="2692440" cy="3889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3132000" y="2708280"/>
            <a:ext cx="25005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77979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ё соревнов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цельное мета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коса и банан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лучший?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3816360" cy="367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859280" y="907920"/>
            <a:ext cx="4103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07:06Z</dcterms:created>
  <dc:creator>user</dc:creator>
  <dc:description/>
  <dc:language>en-US</dc:language>
  <cp:lastModifiedBy>user</cp:lastModifiedBy>
  <dcterms:modified xsi:type="dcterms:W3CDTF">2007-03-17T20:32:24Z</dcterms:modified>
  <cp:revision>16</cp:revision>
  <dc:subject/>
  <dc:title>Юным умникам и умницам</dc:title>
</cp:coreProperties>
</file>